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321-E6EF-4AEA-B665-1EB9A2F7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D2A-9D33-4E5F-85CA-7BD7F66A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246-4EAE-4ABC-8FBD-2E93914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C00-03FF-46AB-9B3A-9E31F54D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633-6C2D-43DA-83AF-55E2CB0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E5B-0A81-43D1-BB3E-1515CC92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078-D11B-45B0-A503-B94FC09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97C-28D7-4611-B2D2-C9B52023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5C3-479A-4405-BE24-51E93B2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6C0-A7B8-42A0-9A27-07424AF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CA7-3B83-403F-8F73-40AE53F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F0F-AADE-41AE-9985-55A31EBC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39FE4-72D9-4DAB-8B9C-FBA3ACD61A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O JABUTI  E  O  COEL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86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jabuti resolveu apo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a corrida com o coel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4680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6000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corrida começ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oelho saiu na frente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em enxergou o jabu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80000" y="5040360"/>
            <a:ext cx="324036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o que posso dor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 pouco. Ele vai dem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me alcançar”, pensou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el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80000" y="4140360"/>
            <a:ext cx="34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1440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oelho pegou no 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 nem viu o jabuti pass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_ Venci! Venci!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itava o jabu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9640" y="3780000"/>
            <a:ext cx="259560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1:29:44Z</dcterms:created>
  <dc:creator>Sala Professores</dc:creator>
  <dc:description/>
  <dc:language>en-US</dc:language>
  <cp:lastModifiedBy/>
  <dcterms:modified xsi:type="dcterms:W3CDTF">2010-12-14T23:46:41Z</dcterms:modified>
  <cp:revision>2</cp:revision>
  <dc:subject/>
  <dc:title/>
</cp:coreProperties>
</file>